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981-D2F5-48ED-B329-52DDDC0E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235-BC28-4EEF-B38A-9EF13C87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1B9-ED44-4602-B966-BFCBC36A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64B-9DF6-4529-9A05-0CCF9C1B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7D1-4F12-412B-928B-10555E8E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1FF-6687-4EC5-9BE9-04BFBF35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5E2-A98F-4EDC-86BB-28B0B3C5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F3A-E277-4D13-9C6D-250CA341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285-3148-41E8-850B-C6E7EEC8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00A-B1C7-4E1D-BB04-76E5B2BF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4A0-608B-4BD8-9DD0-19989456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39D-9B87-4627-AB42-9E2A24D5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FFA8-0177-4699-9975-8F13D6147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4"/>
          <p:cNvSpPr/>
          <p:nvPr/>
        </p:nvSpPr>
        <p:spPr>
          <a:xfrm>
            <a:off x="0" y="3048120"/>
            <a:ext cx="914400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6"/>
          <p:cNvSpPr/>
          <p:nvPr/>
        </p:nvSpPr>
        <p:spPr>
          <a:xfrm>
            <a:off x="685800" y="25909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2438280" y="25909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8"/>
          <p:cNvSpPr/>
          <p:nvPr/>
        </p:nvSpPr>
        <p:spPr>
          <a:xfrm>
            <a:off x="6172200" y="25909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9"/>
          <p:cNvSpPr/>
          <p:nvPr/>
        </p:nvSpPr>
        <p:spPr>
          <a:xfrm>
            <a:off x="8381880" y="25909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0"/>
          <p:cNvSpPr/>
          <p:nvPr/>
        </p:nvSpPr>
        <p:spPr>
          <a:xfrm>
            <a:off x="4343400" y="25909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304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11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0" y="3429000"/>
            <a:ext cx="1371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son’s Name:  now describe why this person is important enough to place on the timelin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yoursstyle.com/wp-content/uploads/2011/03/julius-caesar1.jpg"/>
          <p:cNvPicPr/>
          <p:nvPr/>
        </p:nvPicPr>
        <p:blipFill>
          <a:blip r:embed="rId1"/>
          <a:stretch/>
        </p:blipFill>
        <p:spPr>
          <a:xfrm>
            <a:off x="228600" y="5583240"/>
            <a:ext cx="968400" cy="127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1981080" y="228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 Events of Western Civilization  1105 - 149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5"/>
          <p:cNvSpPr/>
          <p:nvPr/>
        </p:nvSpPr>
        <p:spPr>
          <a:xfrm>
            <a:off x="7848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149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6"/>
          <p:cNvSpPr/>
          <p:nvPr/>
        </p:nvSpPr>
        <p:spPr>
          <a:xfrm>
            <a:off x="7620120" y="3505320"/>
            <a:ext cx="1523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ortant Event:   Age of Exploratio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lain why it is importa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http://authorshive.com/wp-content/uploads/2011/01/santamaria.jpg"/>
          <p:cNvPicPr/>
          <p:nvPr/>
        </p:nvPicPr>
        <p:blipFill>
          <a:blip r:embed="rId2"/>
          <a:stretch/>
        </p:blipFill>
        <p:spPr>
          <a:xfrm>
            <a:off x="7772400" y="1143000"/>
            <a:ext cx="1168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2:31:53Z</dcterms:created>
  <dc:creator>poweruser</dc:creator>
  <dc:description/>
  <dc:language>en-US</dc:language>
  <cp:lastModifiedBy>poweruser</cp:lastModifiedBy>
  <dcterms:modified xsi:type="dcterms:W3CDTF">2011-04-04T12:44:28Z</dcterms:modified>
  <cp:revision>2</cp:revision>
  <dc:subject/>
  <dc:title>Slide 1</dc:title>
</cp:coreProperties>
</file>